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camera.wav" ContentType="audio/x-wav"/>
  <Override PartName="/ppt/media/image3.gif" ContentType="image/gif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083-CB48-44AD-81F4-2E102C51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27B-DBC6-404A-9ED4-3B40B34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EBF-B015-4E3C-8474-8BA17AE2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4E5-2F66-4EA2-A1E0-7C2EFE37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6417-FDEE-4FB2-98E6-AC39B88C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86C-346F-4D00-8444-D69E4E1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266D-E191-4427-BAFE-930716A5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D038-CDFC-4A35-8A34-63AB1AB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771-4813-4B40-B88D-0E3A227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3BB4-F628-4B77-8B37-92B96A4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BA0-C6BA-413C-8B60-7BF59B1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A50-0301-4B17-A5EE-A23EA5D7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0A84-1D42-49CC-B5E7-1D1B625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4C9-5DFD-4812-94E5-C50A901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19CC-B632-4D10-A76D-CBADF66B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7FDA-A6E5-4A19-93A4-F71DB491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D920-102C-4E01-9E49-04DE835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E8E-0975-4577-B1E4-9DAA6C2B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BAC-A82E-426F-8CBD-9DCE78D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A4B-FA35-49BD-AD62-7E029E74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E5C-3C25-4E05-8CB7-B076E2F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E19-F8BC-41DC-85DC-D0379D0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72E-D44B-43DA-8578-CDEE3B3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B10-2D6D-423A-8F10-27BF2A6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B919-4F68-414C-9EAA-627E4CDB754F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EA2-3C01-4BC7-8D34-18774D27023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600" spc="-1" strike="noStrike">
                <a:solidFill>
                  <a:srgbClr val="ffffcc"/>
                </a:solidFill>
                <a:latin typeface="Arial"/>
                <a:cs typeface="MCS Hor 1 S_I Normal 2000"/>
              </a:rPr>
              <a:t>الإملاء</a:t>
            </a:r>
            <a:endParaRPr b="0" lang="en-US" sz="15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1800000" cy="71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908000" y="4797360"/>
            <a:ext cx="515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عمل الأستاذة/ نبيلة فؤاد عبد الراز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1714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76320"/>
            <a:ext cx="8686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ألف المقصورة في الفعل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057400"/>
            <a:ext cx="289584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ec85e"/>
                </a:solidFill>
                <a:latin typeface="Arial"/>
                <a:cs typeface="AL-Hor"/>
              </a:rPr>
              <a:t>الألف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L-Hor"/>
              </a:rPr>
              <a:t> إذا انقلبت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في المضار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واوًا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4122600">
            <a:off x="6993720" y="321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038480"/>
            <a:ext cx="2743200" cy="25909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ec85e"/>
                </a:solidFill>
                <a:latin typeface="Arial"/>
                <a:cs typeface="AL-Hor"/>
              </a:rPr>
              <a:t>الياء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AL-Hor"/>
              </a:rPr>
              <a:t> دائما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L-Hor"/>
              </a:rPr>
              <a:t>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057400"/>
            <a:ext cx="28191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أكثر من ثلاثة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411480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ec85e"/>
                </a:solidFill>
                <a:latin typeface="Arial"/>
                <a:cs typeface="AL-Hor"/>
              </a:rPr>
              <a:t>الياء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L-Hor"/>
              </a:rPr>
              <a:t> إذا انقلبت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في المضار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ياءً أو بقيت ألفًا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318400">
            <a:off x="5792040" y="12495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79800">
            <a:off x="1173600" y="12495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346600">
            <a:off x="1249560" y="32169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7104600">
            <a:off x="4953240" y="32169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rot="10797600">
            <a:off x="3961800" y="1599840"/>
            <a:ext cx="1509480" cy="485640"/>
          </a:xfrm>
          <a:custGeom>
            <a:avLst/>
            <a:gdLst>
              <a:gd name="textAreaLeft" fmla="*/ 188640 w 1509480"/>
              <a:gd name="textAreaRight" fmla="*/ 1320840 w 15094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13200">
            <a:off x="3961800" y="380880"/>
            <a:ext cx="1447560" cy="486000"/>
          </a:xfrm>
          <a:custGeom>
            <a:avLst/>
            <a:gdLst>
              <a:gd name="textAreaLeft" fmla="*/ 180720 w 1447560"/>
              <a:gd name="textAreaRight" fmla="*/ 1266840 w 1447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52280"/>
            <a:ext cx="28191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فعل مضارع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371600"/>
            <a:ext cx="2819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eec85e"/>
                </a:solidFill>
                <a:latin typeface="Arial"/>
                <a:cs typeface="AL-Hor"/>
              </a:rPr>
              <a:t>دعا</a:t>
            </a:r>
            <a:r>
              <a:rPr b="0" lang="en-US" sz="50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152280"/>
            <a:ext cx="2819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فعل ماضي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3809880"/>
            <a:ext cx="2819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eec85e"/>
                </a:solidFill>
                <a:latin typeface="Arial"/>
                <a:cs typeface="AL-Hor"/>
              </a:rPr>
              <a:t>مضى</a:t>
            </a:r>
            <a:r>
              <a:rPr b="0" lang="en-US" sz="50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438280"/>
            <a:ext cx="91440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إذا تحولت الألف المقصورة واوًا تكتب على صورة الألف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371600"/>
            <a:ext cx="2819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يدعو</a:t>
            </a:r>
            <a:r>
              <a:rPr b="0" lang="en-US" sz="50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809880"/>
            <a:ext cx="2819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يمضي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952880"/>
            <a:ext cx="9144000" cy="16765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ial"/>
                <a:cs typeface="AL-Hor"/>
              </a:rPr>
              <a:t>إذا تحولت الألف المقصورة ياء أو بقيت في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AL-Hor"/>
              </a:rPr>
              <a:t> المضارع ألف تكتب على صورة الياء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797600">
            <a:off x="3961800" y="4009680"/>
            <a:ext cx="1509480" cy="485640"/>
          </a:xfrm>
          <a:custGeom>
            <a:avLst/>
            <a:gdLst>
              <a:gd name="textAreaLeft" fmla="*/ 188640 w 1509480"/>
              <a:gd name="textAreaRight" fmla="*/ 1320840 w 15094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س: استخرج من الجمل التالية كل كلم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منتهية بألف مقصور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هد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طالبة مجتهدة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رشا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طالبة مهذب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مصطف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طالب مجد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زرت صديقي في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المستشف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04920"/>
            <a:ext cx="8305920" cy="99036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كم عدد حروف كل كلمة ؟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1676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هد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2819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رشا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11480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مصطفى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5334120"/>
            <a:ext cx="26668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مستشف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2360" y="5562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343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3048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905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81952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67652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257800"/>
            <a:ext cx="2971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6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03848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4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76320"/>
            <a:ext cx="8686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ألف المقصورة في الاسم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2057400"/>
            <a:ext cx="289584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411480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تكتب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الألف في بعض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الاسماء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4122600">
            <a:off x="6993720" y="321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038480"/>
            <a:ext cx="2743200" cy="25909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Arial"/>
                <a:cs typeface="AL-Hor"/>
              </a:rPr>
              <a:t>الياء دائما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28191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أكثر من ثلاثة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11480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و تكتب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الياء في بعض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الاسماء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318400">
            <a:off x="5792040" y="12495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79800">
            <a:off x="1173600" y="12495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346600">
            <a:off x="1249560" y="32169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7104600">
            <a:off x="4953240" y="32169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س: استخرج من الجمل التالية كل كلم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منتهية بألف مقصورة 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hi-IN" sz="6000" spc="-1" strike="noStrike">
                <a:solidFill>
                  <a:srgbClr val="eec85e"/>
                </a:solidFill>
                <a:latin typeface="Verdana"/>
              </a:rPr>
              <a:t>لا</a:t>
            </a: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إله </a:t>
            </a:r>
            <a:r>
              <a:rPr b="1" lang="hi-IN" sz="6000" spc="-1" strike="noStrike">
                <a:solidFill>
                  <a:srgbClr val="eec85e"/>
                </a:solidFill>
                <a:latin typeface="Verdana"/>
              </a:rPr>
              <a:t>إلا</a:t>
            </a: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الله محمد رسول الله 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ذهب محمد </a:t>
            </a:r>
            <a:r>
              <a:rPr b="1" lang="hi-IN" sz="6000" spc="-1" strike="noStrike">
                <a:solidFill>
                  <a:srgbClr val="eec85e"/>
                </a:solidFill>
                <a:latin typeface="Verdana"/>
              </a:rPr>
              <a:t>إلى</a:t>
            </a: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المدرسة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جلس أحمد </a:t>
            </a:r>
            <a:r>
              <a:rPr b="1" lang="hi-IN" sz="6000" spc="-1" strike="noStrike">
                <a:solidFill>
                  <a:srgbClr val="eec85e"/>
                </a:solidFill>
                <a:latin typeface="Verdana"/>
              </a:rPr>
              <a:t>على</a:t>
            </a:r>
            <a:r>
              <a:rPr b="1" lang="en-US" sz="6000" spc="-1" strike="noStrike">
                <a:solidFill>
                  <a:srgbClr val="eaeaea"/>
                </a:solidFill>
                <a:latin typeface="Verdana"/>
              </a:rPr>
              <a:t> الكرسي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248520" y="1676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لا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2819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إلا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11480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334120"/>
            <a:ext cx="26668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إل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5562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343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3048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905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819520"/>
            <a:ext cx="3886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أل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676520"/>
            <a:ext cx="3886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أل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257800"/>
            <a:ext cx="3886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ياء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038480"/>
            <a:ext cx="3886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ياء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76320"/>
            <a:ext cx="8686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ألف المقصورة في الحر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057400"/>
            <a:ext cx="39625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أل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114800"/>
            <a:ext cx="8686800" cy="27432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Arial"/>
                <a:cs typeface="AL-Hor"/>
              </a:rPr>
              <a:t>جميع الحروف قائمة ما عدا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Arial"/>
                <a:cs typeface="AL-Hor"/>
              </a:rPr>
              <a:t>حتى / بلى / إلى / على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057400"/>
            <a:ext cx="36576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cc"/>
                </a:solidFill>
                <a:latin typeface="Arial"/>
                <a:cs typeface="AL-Hor"/>
              </a:rPr>
              <a:t>على صورة الياء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318400">
            <a:off x="6383520" y="12499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79800">
            <a:off x="1735560" y="12495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447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  <a:ea typeface="AL-Hor"/>
              </a:rPr>
              <a:t>    </a:t>
            </a:r>
            <a:r>
              <a:rPr b="1" lang="hi-IN" sz="8100" spc="-1" strike="noStrike">
                <a:solidFill>
                  <a:srgbClr val="ffffcc"/>
                </a:solidFill>
                <a:latin typeface="Arial"/>
                <a:cs typeface="PT Bold Heading"/>
              </a:rPr>
              <a:t>كتابة الألف المقصورة في آخر الكلمة .</a:t>
            </a:r>
            <a:r>
              <a:rPr b="0" lang="en-US" sz="13000" spc="-1" strike="noStrike">
                <a:solidFill>
                  <a:srgbClr val="ffffcc"/>
                </a:solidFill>
                <a:latin typeface="Arial"/>
                <a:ea typeface="المحارب ــ حـر  1"/>
              </a:rPr>
              <a:t> </a:t>
            </a:r>
            <a:r>
              <a:rPr b="0" lang="en-US" sz="96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52480" y="304920"/>
            <a:ext cx="5791320" cy="1066680"/>
          </a:xfrm>
          <a:prstGeom prst="roundRect">
            <a:avLst>
              <a:gd name="adj" fmla="val 16667"/>
            </a:avLst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99"/>
                </a:solidFill>
                <a:latin typeface="Arial"/>
                <a:cs typeface="PT Bold Heading"/>
              </a:rPr>
              <a:t>ما هي  أقسام الكلمة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600200"/>
            <a:ext cx="39621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كلمة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983400">
            <a:off x="6500520" y="2759040"/>
            <a:ext cx="1295640" cy="1095120"/>
          </a:xfrm>
          <a:custGeom>
            <a:avLst/>
            <a:gdLst>
              <a:gd name="textAreaLeft" fmla="*/ 202320 w 1295640"/>
              <a:gd name="textAreaRight" fmla="*/ 1249920 w 1295640"/>
              <a:gd name="textAreaTop" fmla="*/ 464040 h 1095120"/>
              <a:gd name="textAreaBottom" fmla="*/ 631080 h 1095120"/>
            </a:gdLst>
            <a:ahLst/>
            <a:rect l="textAreaLeft" t="textAreaTop" r="textAreaRight" b="textAreaBottom"/>
            <a:pathLst>
              <a:path w="21600" h="21600">
                <a:moveTo>
                  <a:pt x="3375" y="9154"/>
                </a:moveTo>
                <a:lnTo>
                  <a:pt x="16586" y="9154"/>
                </a:ln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16586" y="12446"/>
                </a:lnTo>
                <a:lnTo>
                  <a:pt x="3375" y="12446"/>
                </a:lnTo>
                <a:close/>
              </a:path>
              <a:path w="21600" h="21600">
                <a:moveTo>
                  <a:pt x="0" y="9154"/>
                </a:moveTo>
                <a:lnTo>
                  <a:pt x="675" y="9154"/>
                </a:lnTo>
                <a:lnTo>
                  <a:pt x="675" y="12446"/>
                </a:lnTo>
                <a:lnTo>
                  <a:pt x="0" y="12446"/>
                </a:lnTo>
                <a:close/>
              </a:path>
              <a:path w="21600" h="21600">
                <a:moveTo>
                  <a:pt x="1350" y="9154"/>
                </a:moveTo>
                <a:lnTo>
                  <a:pt x="2700" y="9154"/>
                </a:lnTo>
                <a:lnTo>
                  <a:pt x="2700" y="12446"/>
                </a:lnTo>
                <a:lnTo>
                  <a:pt x="1350" y="12446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31800">
            <a:off x="4090680" y="2766960"/>
            <a:ext cx="1295640" cy="1095120"/>
          </a:xfrm>
          <a:custGeom>
            <a:avLst/>
            <a:gdLst>
              <a:gd name="textAreaLeft" fmla="*/ 202320 w 1295640"/>
              <a:gd name="textAreaRight" fmla="*/ 1249920 w 1295640"/>
              <a:gd name="textAreaTop" fmla="*/ 464040 h 1095120"/>
              <a:gd name="textAreaBottom" fmla="*/ 631080 h 1095120"/>
            </a:gdLst>
            <a:ahLst/>
            <a:rect l="textAreaLeft" t="textAreaTop" r="textAreaRight" b="textAreaBottom"/>
            <a:pathLst>
              <a:path w="21600" h="21600">
                <a:moveTo>
                  <a:pt x="3375" y="9154"/>
                </a:moveTo>
                <a:lnTo>
                  <a:pt x="16586" y="9154"/>
                </a:ln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16586" y="12446"/>
                </a:lnTo>
                <a:lnTo>
                  <a:pt x="3375" y="12446"/>
                </a:lnTo>
                <a:close/>
              </a:path>
              <a:path w="21600" h="21600">
                <a:moveTo>
                  <a:pt x="0" y="9154"/>
                </a:moveTo>
                <a:lnTo>
                  <a:pt x="675" y="9154"/>
                </a:lnTo>
                <a:lnTo>
                  <a:pt x="675" y="12446"/>
                </a:lnTo>
                <a:lnTo>
                  <a:pt x="0" y="12446"/>
                </a:lnTo>
                <a:close/>
              </a:path>
              <a:path w="21600" h="21600">
                <a:moveTo>
                  <a:pt x="1350" y="9154"/>
                </a:moveTo>
                <a:lnTo>
                  <a:pt x="2700" y="9154"/>
                </a:lnTo>
                <a:lnTo>
                  <a:pt x="2700" y="12446"/>
                </a:lnTo>
                <a:lnTo>
                  <a:pt x="1350" y="12446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7570800">
            <a:off x="1956960" y="2690640"/>
            <a:ext cx="1295280" cy="1095480"/>
          </a:xfrm>
          <a:custGeom>
            <a:avLst/>
            <a:gdLst>
              <a:gd name="textAreaLeft" fmla="*/ 202320 w 1295280"/>
              <a:gd name="textAreaRight" fmla="*/ 1249560 w 1295280"/>
              <a:gd name="textAreaTop" fmla="*/ 464400 h 1095480"/>
              <a:gd name="textAreaBottom" fmla="*/ 631080 h 1095480"/>
            </a:gdLst>
            <a:ahLst/>
            <a:rect l="textAreaLeft" t="textAreaTop" r="textAreaRight" b="textAreaBottom"/>
            <a:pathLst>
              <a:path w="21600" h="21600">
                <a:moveTo>
                  <a:pt x="3375" y="9154"/>
                </a:moveTo>
                <a:lnTo>
                  <a:pt x="16586" y="9154"/>
                </a:ln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16586" y="12446"/>
                </a:lnTo>
                <a:lnTo>
                  <a:pt x="3375" y="12446"/>
                </a:lnTo>
                <a:close/>
              </a:path>
              <a:path w="21600" h="21600">
                <a:moveTo>
                  <a:pt x="0" y="9154"/>
                </a:moveTo>
                <a:lnTo>
                  <a:pt x="675" y="9154"/>
                </a:lnTo>
                <a:lnTo>
                  <a:pt x="675" y="12446"/>
                </a:lnTo>
                <a:lnTo>
                  <a:pt x="0" y="12446"/>
                </a:lnTo>
                <a:close/>
              </a:path>
              <a:path w="21600" h="21600">
                <a:moveTo>
                  <a:pt x="1350" y="9154"/>
                </a:moveTo>
                <a:lnTo>
                  <a:pt x="2700" y="9154"/>
                </a:lnTo>
                <a:lnTo>
                  <a:pt x="2700" y="12446"/>
                </a:lnTo>
                <a:lnTo>
                  <a:pt x="1350" y="12446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114800"/>
            <a:ext cx="2362320" cy="16765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فعل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114800"/>
            <a:ext cx="2362320" cy="16765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سم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114800"/>
            <a:ext cx="2209680" cy="16002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حرف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76320"/>
            <a:ext cx="7924680" cy="190476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جلس عليٌ على الكرسي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62320"/>
            <a:ext cx="7848720" cy="11430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س: عين أجزاء هذه الجملة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962520"/>
            <a:ext cx="3733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جلس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: </a:t>
            </a: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فعل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962520"/>
            <a:ext cx="3733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ي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: </a:t>
            </a: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اسم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181480"/>
            <a:ext cx="3733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ى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: </a:t>
            </a: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حر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181480"/>
            <a:ext cx="38098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الكرسي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: </a:t>
            </a: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اسم</a:t>
            </a:r>
            <a:r>
              <a:rPr b="1" lang="en-US" sz="5400" spc="-1" strike="noStrike">
                <a:solidFill>
                  <a:srgbClr val="aec505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152280"/>
            <a:ext cx="8458200" cy="12193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ما هو الفرق بين  (</a:t>
            </a: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يٌ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) و ( </a:t>
            </a: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ى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)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276720"/>
            <a:ext cx="8458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ما الحرف الذي ختمت به الكلمتين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76520"/>
            <a:ext cx="4114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ى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: 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676520"/>
            <a:ext cx="4114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ي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: اسم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419720"/>
            <a:ext cx="8305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ي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: ختمت بحرف الياء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562720"/>
            <a:ext cx="84582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على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: ختمت بحرف الألف المقصورة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e855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aeaea"/>
                </a:solidFill>
                <a:latin typeface="Verdana"/>
              </a:rPr>
              <a:t>س : اذكر أسم الحرف الذي ختمت هاتان الكلمتان : دعا وجرى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دعا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: ألف مقصور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جر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: ألف مقصور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س: استخرج من الجمل التالية كل كلم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منتهية بألف مقصور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دعا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المؤمن ربه .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مض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الرجل في طريق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يخش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المؤمن ربه 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Verdana"/>
              </a:rPr>
              <a:t>أتمنى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 من الله أن يحقق أملي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457200"/>
            <a:ext cx="36576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مض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828800"/>
            <a:ext cx="3733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يخشى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828800"/>
            <a:ext cx="3733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أتمنى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457200"/>
            <a:ext cx="373392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دعا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124080"/>
            <a:ext cx="82296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س: ما نوع هذه الكلمات ؟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267080"/>
            <a:ext cx="815364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دعا / مضى / يخشى / أتمنى : </a:t>
            </a:r>
            <a:r>
              <a:rPr b="1" lang="hi-IN" sz="5400" spc="-1" strike="noStrike">
                <a:solidFill>
                  <a:srgbClr val="eaeaea"/>
                </a:solidFill>
                <a:latin typeface="Arial"/>
                <a:cs typeface="AL-Hor"/>
              </a:rPr>
              <a:t>أفعال</a:t>
            </a:r>
            <a:r>
              <a:rPr b="1" lang="en-US" sz="5400" spc="-1" strike="noStrike">
                <a:solidFill>
                  <a:srgbClr val="eec85e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05920" cy="99036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  <a:cs typeface="AL-Hor"/>
              </a:rPr>
              <a:t>كم عدد حروف كل كلمة ؟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1676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دعا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81952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مضى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4114800"/>
            <a:ext cx="259056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يخش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5334120"/>
            <a:ext cx="26668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ec85e"/>
                </a:solidFill>
                <a:latin typeface="Arial"/>
                <a:cs typeface="AL-Hor"/>
              </a:rPr>
              <a:t>أتمنى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5562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343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048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ec85e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905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81952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67652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3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5257800"/>
            <a:ext cx="297180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5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038480"/>
            <a:ext cx="2895480" cy="9144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4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L-Hor"/>
              </a:rPr>
              <a:t> أحرف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6:27:23Z</dcterms:created>
  <dc:creator>AD</dc:creator>
  <dc:description/>
  <dc:language>en-US</dc:language>
  <cp:lastModifiedBy>Omar</cp:lastModifiedBy>
  <dcterms:modified xsi:type="dcterms:W3CDTF">2007-12-09T12:11:41Z</dcterms:modified>
  <cp:revision>3</cp:revision>
  <dc:subject/>
  <dc:title>الشريحة 1</dc:title>
</cp:coreProperties>
</file>